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7164388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8770-D7A6-4CBC-B714-3A1517193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06DD-0E3D-450D-BDD1-4B618A52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F254-B1F4-4DDE-A35D-EC8EF14B0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A16F-EAA1-45F8-BEDC-B40D44EEE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AF00-EA0A-4312-A3CF-C4107D8FA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5C5D-84C2-42D7-B9A0-8197E7D5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ECD5-C44C-47A7-9D34-33E46226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56464-285F-4D22-BA43-3CA3960F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027C-096A-4269-9556-DFE47A0F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4D4B-7B7E-44A7-9E4B-43782C4E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03A18-21B9-4A6C-84F6-9A058568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BC4B-0460-4511-93A7-60628EDF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303B-77AF-43F9-8B5B-F764BEAF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E273-83E9-4831-9B49-4CE0E6B9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42475-93D4-4C88-B267-07F9E212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B596-0FAE-4564-AD16-24A72672E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6086-8AD2-4A77-A810-EDE9E6B52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A9C2-C8BC-43F3-ABD3-902C06F6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8F30-6DD3-465A-AEA0-7043F585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C120-7A80-4FC7-853A-A0FDA4E5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A07C-CA79-4301-964B-E745E95C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4BEE-8049-420D-A109-77B57EC7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087C-B3AA-46CB-A41A-B96338FB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D674-1464-4A97-96A8-F614CE13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>
              <a:gd name="textAreaLeft" fmla="*/ 0 w 4578480"/>
              <a:gd name="textAreaRight" fmla="*/ 4578840 w 45784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3B77-0C93-4EC8-93D3-28B269EB2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>
              <a:gd name="textAreaLeft" fmla="*/ 0 w 4578480"/>
              <a:gd name="textAreaRight" fmla="*/ 4578840 w 45784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A41D-14A3-4353-B5A5-A1A793F392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" Target="slide52.xml"/><Relationship Id="rId29" Type="http://schemas.openxmlformats.org/officeDocument/2006/relationships/audio" Target="../media/jeop.wav"/><Relationship Id="rId3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457200" y="1351080"/>
          <a:ext cx="8080200" cy="482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51080"/>
                    <a:ext cx="8080200" cy="48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533520" y="12952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gl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2514600" y="1295280"/>
            <a:ext cx="106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889440" y="1379520"/>
            <a:ext cx="129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ca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407560" y="1295280"/>
            <a:ext cx="12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as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265160" y="1447920"/>
            <a:ext cx="75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15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8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9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20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21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22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23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25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7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8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9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30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31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47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Angle Relationship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4"/>
          <p:cNvSpPr/>
          <p:nvPr/>
        </p:nvSpPr>
        <p:spPr>
          <a:xfrm>
            <a:off x="990720" y="2362320"/>
            <a:ext cx="7391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f an inscribed angle intercepts the diameter of a circle, then what is the measure of the angle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Angle Relationship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4"/>
          <p:cNvSpPr/>
          <p:nvPr/>
        </p:nvSpPr>
        <p:spPr>
          <a:xfrm>
            <a:off x="3817080" y="2514600"/>
            <a:ext cx="124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90°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Circle Equa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533520" y="1828800"/>
            <a:ext cx="74674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What is the equation of a circle whose center is at (3, 5) and radius is 9?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Circle Equa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4"/>
          <p:cNvSpPr/>
          <p:nvPr/>
        </p:nvSpPr>
        <p:spPr>
          <a:xfrm>
            <a:off x="304920" y="21337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(x – 3)</a:t>
            </a:r>
            <a:r>
              <a:rPr b="0" lang="en-US" sz="7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  + (y – 5)</a:t>
            </a:r>
            <a:r>
              <a:rPr b="0" lang="en-US" sz="7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 =81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Circle Equa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380880" y="1295280"/>
            <a:ext cx="7848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What is the equation of a circle whose center is at (5, -9) and radius is 12?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Circle Equa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1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4"/>
          <p:cNvSpPr/>
          <p:nvPr/>
        </p:nvSpPr>
        <p:spPr>
          <a:xfrm>
            <a:off x="380880" y="2133720"/>
            <a:ext cx="8628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(x – 5)</a:t>
            </a:r>
            <a:r>
              <a:rPr b="0" lang="en-US" sz="66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+ (y + 9)</a:t>
            </a:r>
            <a:r>
              <a:rPr b="0" lang="en-US" sz="66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= 144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Circle Equa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0" y="137160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ere does the point (2, 3) lie in relation to the circle centered at (3, -4) with a radius of 9 unit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Circle Equa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7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8" name="TextBox 5"/>
          <p:cNvSpPr/>
          <p:nvPr/>
        </p:nvSpPr>
        <p:spPr>
          <a:xfrm>
            <a:off x="1371600" y="21337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On the interior.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Circle Equa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4"/>
          <p:cNvSpPr/>
          <p:nvPr/>
        </p:nvSpPr>
        <p:spPr>
          <a:xfrm>
            <a:off x="1066680" y="1905120"/>
            <a:ext cx="6782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How do you find the scale factor between two circles, </a:t>
            </a:r>
            <a:r>
              <a:rPr b="0" lang="en-US" sz="6000" spc="-1" strike="noStrike">
                <a:solidFill>
                  <a:srgbClr val="ffffff"/>
                </a:solidFill>
                <a:latin typeface="Cambria Math"/>
                <a:ea typeface="Cambria Math"/>
              </a:rPr>
              <a:t>ʘA and ʘB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Circle Equa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4"/>
          <p:cNvSpPr/>
          <p:nvPr/>
        </p:nvSpPr>
        <p:spPr>
          <a:xfrm>
            <a:off x="380880" y="2133720"/>
            <a:ext cx="8850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adius </a:t>
            </a:r>
            <a:r>
              <a:rPr b="0" lang="en-US" sz="4400" spc="-1" strike="noStrike">
                <a:solidFill>
                  <a:srgbClr val="ffffff"/>
                </a:solidFill>
                <a:latin typeface="Cambria Math"/>
                <a:ea typeface="Cambria Math"/>
              </a:rPr>
              <a:t>ʘA</a:t>
            </a:r>
            <a:r>
              <a:rPr b="0" lang="en-US" sz="44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mbria Math"/>
                <a:ea typeface="Cambria Math"/>
              </a:rPr>
              <a:t>Circumference ʘ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mbria Math"/>
                <a:ea typeface="Cambria Math"/>
              </a:rPr>
              <a:t>-------------</a:t>
            </a:r>
            <a:r>
              <a:rPr b="0" lang="en-US" sz="44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mbria Math"/>
                <a:ea typeface="Cambria Math"/>
              </a:rPr>
              <a:t>or</a:t>
            </a:r>
            <a:r>
              <a:rPr b="0" lang="en-US" sz="44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mbria Math"/>
                <a:ea typeface="Cambria Math"/>
              </a:rPr>
              <a:t>----------------------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mbria Math"/>
                <a:ea typeface="Cambria Math"/>
              </a:rPr>
              <a:t>Radius ʘB</a:t>
            </a:r>
            <a:r>
              <a:rPr b="0" lang="en-US" sz="44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mbria Math"/>
                <a:ea typeface="Cambria Math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mbria Math"/>
                <a:ea typeface="Cambria Math"/>
              </a:rPr>
              <a:t>Circumference ʘB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mbria Math"/>
                <a:ea typeface="Cambria Math"/>
              </a:rPr>
              <a:t>What does this tell u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gle Relationship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493200" y="1523880"/>
            <a:ext cx="663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measure of angleLO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3"/>
          <a:stretch/>
        </p:blipFill>
        <p:spPr>
          <a:xfrm>
            <a:off x="2427120" y="2362320"/>
            <a:ext cx="46040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Circle Equa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380880" y="2057400"/>
            <a:ext cx="8763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does the point (0,5) lie in relation to the circle centered at the origin and containing the point (3,4)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Circle Equa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4"/>
          <p:cNvSpPr/>
          <p:nvPr/>
        </p:nvSpPr>
        <p:spPr>
          <a:xfrm>
            <a:off x="228600" y="1981080"/>
            <a:ext cx="411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+ y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= r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+ 4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 = r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25 = r</a:t>
            </a:r>
            <a:r>
              <a:rPr b="0" lang="en-US" sz="6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5 = r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4267080" y="1981080"/>
            <a:ext cx="4419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5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+ y</a:t>
            </a:r>
            <a:r>
              <a:rPr b="0" lang="en-US" sz="5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= 25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5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+ 5</a:t>
            </a:r>
            <a:r>
              <a:rPr b="0" lang="en-US" sz="5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?=? 25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25 ?=? 25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Interio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2" name="Straight Arrow Connector 9"/>
          <p:cNvCxnSpPr/>
          <p:nvPr/>
        </p:nvCxnSpPr>
        <p:spPr>
          <a:xfrm flipV="1">
            <a:off x="2362320" y="2819160"/>
            <a:ext cx="1829520" cy="30484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Circle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1066680" y="1981080"/>
            <a:ext cx="3200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M is the _______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3903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Circle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209" name="Text Box 4" descr=""/>
          <p:cNvPicPr/>
          <p:nvPr/>
        </p:nvPicPr>
        <p:blipFill>
          <a:blip r:embed="rId2"/>
          <a:stretch/>
        </p:blipFill>
        <p:spPr>
          <a:xfrm>
            <a:off x="1596960" y="1719360"/>
            <a:ext cx="5724720" cy="12063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"/>
          <p:cNvPicPr/>
          <p:nvPr/>
        </p:nvPicPr>
        <p:blipFill>
          <a:blip r:embed="rId3"/>
          <a:stretch/>
        </p:blipFill>
        <p:spPr>
          <a:xfrm>
            <a:off x="4343400" y="2819520"/>
            <a:ext cx="373392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Circle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4800600" y="2362320"/>
            <a:ext cx="3591000" cy="3574800"/>
          </a:xfrm>
          <a:prstGeom prst="rect">
            <a:avLst/>
          </a:prstGeom>
          <a:ln w="0">
            <a:noFill/>
          </a:ln>
        </p:spPr>
      </p:pic>
      <p:sp>
        <p:nvSpPr>
          <p:cNvPr id="214" name="TextBox 6"/>
          <p:cNvSpPr/>
          <p:nvPr/>
        </p:nvSpPr>
        <p:spPr>
          <a:xfrm>
            <a:off x="1066680" y="2057400"/>
            <a:ext cx="2971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Line segment LM is a ______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Triangle Proof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7" name="TextBox 4"/>
          <p:cNvSpPr/>
          <p:nvPr/>
        </p:nvSpPr>
        <p:spPr>
          <a:xfrm>
            <a:off x="609480" y="1981080"/>
            <a:ext cx="44960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Line segment LM is a radius.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5108400" y="1905120"/>
            <a:ext cx="3673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Circle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"/>
          <p:cNvPicPr/>
          <p:nvPr/>
        </p:nvPicPr>
        <p:blipFill>
          <a:blip r:embed="rId2"/>
          <a:stretch/>
        </p:blipFill>
        <p:spPr>
          <a:xfrm>
            <a:off x="4419720" y="1219320"/>
            <a:ext cx="4286160" cy="4267080"/>
          </a:xfrm>
          <a:prstGeom prst="rect">
            <a:avLst/>
          </a:prstGeom>
          <a:ln w="0">
            <a:noFill/>
          </a:ln>
        </p:spPr>
      </p:pic>
      <p:sp>
        <p:nvSpPr>
          <p:cNvPr id="222" name="TextBox 6"/>
          <p:cNvSpPr/>
          <p:nvPr/>
        </p:nvSpPr>
        <p:spPr>
          <a:xfrm>
            <a:off x="304920" y="1066680"/>
            <a:ext cx="3733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Line Segment LO is a _________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Triangle Proof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"/>
          <p:cNvPicPr/>
          <p:nvPr/>
        </p:nvPicPr>
        <p:blipFill>
          <a:blip r:embed="rId2"/>
          <a:stretch/>
        </p:blipFill>
        <p:spPr>
          <a:xfrm>
            <a:off x="4486320" y="1066680"/>
            <a:ext cx="4438440" cy="4419720"/>
          </a:xfrm>
          <a:prstGeom prst="rect">
            <a:avLst/>
          </a:prstGeom>
          <a:ln w="0">
            <a:noFill/>
          </a:ln>
        </p:spPr>
      </p:pic>
      <p:sp>
        <p:nvSpPr>
          <p:cNvPr id="226" name="TextBox 5"/>
          <p:cNvSpPr/>
          <p:nvPr/>
        </p:nvSpPr>
        <p:spPr>
          <a:xfrm>
            <a:off x="838080" y="1295280"/>
            <a:ext cx="3505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Line segment LO is a chord.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Circle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4952880" y="1905120"/>
            <a:ext cx="3827520" cy="3809880"/>
          </a:xfrm>
          <a:prstGeom prst="rect">
            <a:avLst/>
          </a:prstGeom>
          <a:ln w="0">
            <a:noFill/>
          </a:ln>
        </p:spPr>
      </p:pic>
      <p:sp>
        <p:nvSpPr>
          <p:cNvPr id="230" name="TextBox 5"/>
          <p:cNvSpPr/>
          <p:nvPr/>
        </p:nvSpPr>
        <p:spPr>
          <a:xfrm>
            <a:off x="609480" y="1905120"/>
            <a:ext cx="3962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Line ON is a __________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Circle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4"/>
          <p:cNvSpPr/>
          <p:nvPr/>
        </p:nvSpPr>
        <p:spPr>
          <a:xfrm>
            <a:off x="990720" y="1981080"/>
            <a:ext cx="484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Line ON is a secant.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2"/>
          <a:stretch/>
        </p:blipFill>
        <p:spPr>
          <a:xfrm>
            <a:off x="5415120" y="1905120"/>
            <a:ext cx="3367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gle Relationship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9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4"/>
          <p:cNvSpPr/>
          <p:nvPr/>
        </p:nvSpPr>
        <p:spPr>
          <a:xfrm>
            <a:off x="1889280" y="2133720"/>
            <a:ext cx="4282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55.01°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Circle Vocab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4"/>
          <p:cNvSpPr/>
          <p:nvPr/>
        </p:nvSpPr>
        <p:spPr>
          <a:xfrm>
            <a:off x="838080" y="1981080"/>
            <a:ext cx="32004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Line j is a _______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3819600" cy="43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Triangle Proof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838080" y="1752480"/>
            <a:ext cx="3962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Line j is a tangent line.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2"/>
          <a:stretch/>
        </p:blipFill>
        <p:spPr>
          <a:xfrm>
            <a:off x="5014800" y="1828800"/>
            <a:ext cx="3614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Area of Sect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4"/>
          <p:cNvSpPr/>
          <p:nvPr/>
        </p:nvSpPr>
        <p:spPr>
          <a:xfrm>
            <a:off x="533520" y="1676520"/>
            <a:ext cx="3657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Find the area of the shaded region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2"/>
          <a:stretch/>
        </p:blipFill>
        <p:spPr>
          <a:xfrm>
            <a:off x="5086440" y="1195560"/>
            <a:ext cx="4057560" cy="56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Area of Sect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4"/>
          <p:cNvSpPr/>
          <p:nvPr/>
        </p:nvSpPr>
        <p:spPr>
          <a:xfrm>
            <a:off x="533520" y="2133720"/>
            <a:ext cx="4267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20.865 square cm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2"/>
          <a:stretch/>
        </p:blipFill>
        <p:spPr>
          <a:xfrm>
            <a:off x="5410080" y="1219320"/>
            <a:ext cx="373392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Area of Sect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380880" y="1295280"/>
            <a:ext cx="3429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What is the area of the shaded region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2"/>
          <a:stretch/>
        </p:blipFill>
        <p:spPr>
          <a:xfrm>
            <a:off x="3902040" y="1143000"/>
            <a:ext cx="4946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Area of Sect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4"/>
          <p:cNvSpPr/>
          <p:nvPr/>
        </p:nvSpPr>
        <p:spPr>
          <a:xfrm>
            <a:off x="457200" y="1752480"/>
            <a:ext cx="4114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8.944 square cm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2"/>
          <a:stretch/>
        </p:blipFill>
        <p:spPr>
          <a:xfrm>
            <a:off x="4114800" y="1066680"/>
            <a:ext cx="472428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Area of Sect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4"/>
          <p:cNvSpPr/>
          <p:nvPr/>
        </p:nvSpPr>
        <p:spPr>
          <a:xfrm>
            <a:off x="914400" y="1905120"/>
            <a:ext cx="7467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the area of a sector that is created by a diameter if the circumference of the circle is 18 feet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Area of Sect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4"/>
          <p:cNvSpPr/>
          <p:nvPr/>
        </p:nvSpPr>
        <p:spPr>
          <a:xfrm>
            <a:off x="304920" y="1752480"/>
            <a:ext cx="7162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r = 9</a:t>
            </a:r>
            <a:r>
              <a:rPr b="0" lang="el-GR" sz="48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≈ 2.864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A = (180/360)[</a:t>
            </a:r>
            <a:r>
              <a:rPr b="0" lang="el-GR" sz="48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x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(9</a:t>
            </a:r>
            <a:r>
              <a:rPr b="0" lang="el-GR" sz="48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4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 = 4.5</a:t>
            </a:r>
            <a:r>
              <a:rPr b="0" lang="el-GR" sz="48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n-US" sz="4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ft</a:t>
            </a:r>
            <a:r>
              <a:rPr b="0" lang="en-US" sz="4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l-GR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Cambria Math"/>
                <a:ea typeface="Cambria Math"/>
              </a:rPr>
              <a:t>≈ 44.413 f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Area of Sect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4"/>
          <p:cNvSpPr/>
          <p:nvPr/>
        </p:nvSpPr>
        <p:spPr>
          <a:xfrm>
            <a:off x="762120" y="1143000"/>
            <a:ext cx="71625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e area of a sector is 16 square meters and the angle is 2 radians. what is the measure of the radius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Area of Sect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4"/>
          <p:cNvSpPr/>
          <p:nvPr/>
        </p:nvSpPr>
        <p:spPr>
          <a:xfrm>
            <a:off x="2758680" y="2362320"/>
            <a:ext cx="3044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4 meter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Angle Relationship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"/>
          <p:cNvSpPr/>
          <p:nvPr/>
        </p:nvSpPr>
        <p:spPr>
          <a:xfrm>
            <a:off x="228600" y="1752480"/>
            <a:ext cx="2971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the measure of angleLM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3"/>
          <a:stretch/>
        </p:blipFill>
        <p:spPr>
          <a:xfrm>
            <a:off x="3505320" y="1371600"/>
            <a:ext cx="563868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Area of Sect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3" name="TextBox 4"/>
          <p:cNvSpPr/>
          <p:nvPr/>
        </p:nvSpPr>
        <p:spPr>
          <a:xfrm>
            <a:off x="457200" y="1143000"/>
            <a:ext cx="81532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mbria Math"/>
                <a:ea typeface="Cambria Math"/>
              </a:rPr>
              <a:t>The Area of ʘB is 100</a:t>
            </a:r>
            <a:r>
              <a:rPr b="0" lang="el-GR" sz="4000" spc="-1" strike="noStrike">
                <a:solidFill>
                  <a:srgbClr val="ffffff"/>
                </a:solidFill>
                <a:latin typeface="Cambria Math"/>
                <a:ea typeface="Cambria Math"/>
              </a:rPr>
              <a:t>π</a:t>
            </a:r>
            <a:r>
              <a:rPr b="0" lang="en-US" sz="4000" spc="-1" strike="noStrike">
                <a:solidFill>
                  <a:srgbClr val="ffffff"/>
                </a:solidFill>
                <a:latin typeface="Cambria Math"/>
                <a:ea typeface="Cambria Math"/>
              </a:rPr>
              <a:t> sq. cm. If a piece of the circle has been taken out so that the length of the arc taken is 16 cm, what the area of the sector taken out of the whole?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Area of Sect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4"/>
          <p:cNvSpPr/>
          <p:nvPr/>
        </p:nvSpPr>
        <p:spPr>
          <a:xfrm>
            <a:off x="1828440" y="1371600"/>
            <a:ext cx="4917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A = 80 sq. cm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Misc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8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4"/>
          <p:cNvSpPr/>
          <p:nvPr/>
        </p:nvSpPr>
        <p:spPr>
          <a:xfrm>
            <a:off x="1295280" y="1905120"/>
            <a:ext cx="6416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 quadrilateral can be inscribed in a circle iff…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Misc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1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4"/>
          <p:cNvSpPr/>
          <p:nvPr/>
        </p:nvSpPr>
        <p:spPr>
          <a:xfrm>
            <a:off x="1889280" y="2438280"/>
            <a:ext cx="603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e opposite angles are supplemental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Misc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4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4"/>
          <p:cNvSpPr/>
          <p:nvPr/>
        </p:nvSpPr>
        <p:spPr>
          <a:xfrm>
            <a:off x="1371600" y="1752480"/>
            <a:ext cx="7543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the formula for the area of a sector if you are given the degree measure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Misc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7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4"/>
          <p:cNvSpPr/>
          <p:nvPr/>
        </p:nvSpPr>
        <p:spPr>
          <a:xfrm>
            <a:off x="862200" y="1447920"/>
            <a:ext cx="5650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A = (n/360)(</a:t>
            </a:r>
            <a:r>
              <a:rPr b="0" lang="el-GR" sz="6600" spc="-1" strike="noStrike">
                <a:solidFill>
                  <a:srgbClr val="ffffff"/>
                </a:solidFill>
                <a:latin typeface="Times New Roman"/>
              </a:rPr>
              <a:t>π</a:t>
            </a: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66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Misc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0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4"/>
          <p:cNvSpPr/>
          <p:nvPr/>
        </p:nvSpPr>
        <p:spPr>
          <a:xfrm>
            <a:off x="2057400" y="1219320"/>
            <a:ext cx="5181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 the formula for finding the radian measure of a circle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Misc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3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4"/>
          <p:cNvSpPr/>
          <p:nvPr/>
        </p:nvSpPr>
        <p:spPr>
          <a:xfrm>
            <a:off x="152280" y="99072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mbria Math"/>
                <a:ea typeface="Cambria Math"/>
              </a:rPr>
              <a:t>Number of Radians = Arc Length/Radiu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Misc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6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4"/>
          <p:cNvSpPr/>
          <p:nvPr/>
        </p:nvSpPr>
        <p:spPr>
          <a:xfrm>
            <a:off x="1676520" y="2209680"/>
            <a:ext cx="716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many radians are there in 360°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Misc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9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4"/>
          <p:cNvSpPr/>
          <p:nvPr/>
        </p:nvSpPr>
        <p:spPr>
          <a:xfrm>
            <a:off x="3664080" y="2133720"/>
            <a:ext cx="109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l-GR" sz="7200" spc="-1" strike="noStrike">
                <a:solidFill>
                  <a:srgbClr val="ffffff"/>
                </a:solidFill>
                <a:latin typeface="Times New Roman"/>
              </a:rPr>
              <a:t>π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Angle Relationship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6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4"/>
          <p:cNvSpPr/>
          <p:nvPr/>
        </p:nvSpPr>
        <p:spPr>
          <a:xfrm>
            <a:off x="0" y="1828800"/>
            <a:ext cx="3200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44.80°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3"/>
          <a:stretch/>
        </p:blipFill>
        <p:spPr>
          <a:xfrm>
            <a:off x="3657600" y="2048040"/>
            <a:ext cx="497196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Misc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02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4"/>
          <p:cNvSpPr/>
          <p:nvPr/>
        </p:nvSpPr>
        <p:spPr>
          <a:xfrm>
            <a:off x="1981080" y="2133720"/>
            <a:ext cx="6248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Describe each step in drawing the circumscribed circle for a triangle.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Misc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05" name="Picture 3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4"/>
          <p:cNvSpPr/>
          <p:nvPr/>
        </p:nvSpPr>
        <p:spPr>
          <a:xfrm>
            <a:off x="990720" y="990720"/>
            <a:ext cx="7924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nd the perpendicular bisector for at least two sides of the triangl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743040" indent="-74304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nd the circumcenter (the point where they meet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743040" indent="-74304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raw a circle with the circumcenter as the center and the radius extends to at least one of the vertic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152280" y="2438280"/>
            <a:ext cx="8686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Where did Ms. Schaefer go to college?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9" name="final_Q.wav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m_button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" fill="hold"/>
                                        <p:tgtEl>
                                          <p:spTgt spid="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1783800" y="2514600"/>
            <a:ext cx="644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Dickinson College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3" name="Picture 4" descr="m_button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Angle Relationship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0" y="2057400"/>
            <a:ext cx="3429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Identify th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Measure of angleLM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3"/>
          <a:stretch/>
        </p:blipFill>
        <p:spPr>
          <a:xfrm>
            <a:off x="3429000" y="1447920"/>
            <a:ext cx="5715000" cy="54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Angle Relationship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4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4"/>
          <p:cNvSpPr/>
          <p:nvPr/>
        </p:nvSpPr>
        <p:spPr>
          <a:xfrm>
            <a:off x="319680" y="1981080"/>
            <a:ext cx="2821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156.15°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3"/>
          <a:stretch/>
        </p:blipFill>
        <p:spPr>
          <a:xfrm>
            <a:off x="3886200" y="1882800"/>
            <a:ext cx="52578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Angle Relationship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8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"/>
          <p:cNvSpPr/>
          <p:nvPr/>
        </p:nvSpPr>
        <p:spPr>
          <a:xfrm>
            <a:off x="0" y="2286000"/>
            <a:ext cx="3962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What is the measure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of angleLON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3"/>
          <a:stretch/>
        </p:blipFill>
        <p:spPr>
          <a:xfrm>
            <a:off x="4081320" y="2043000"/>
            <a:ext cx="506268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Angle Relationship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2" name="Picture 3" descr="m_butt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609480" y="2362320"/>
            <a:ext cx="304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101.925°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3"/>
          <a:stretch/>
        </p:blipFill>
        <p:spPr>
          <a:xfrm>
            <a:off x="4081320" y="2043000"/>
            <a:ext cx="506268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.</cp:lastModifiedBy>
  <dcterms:modified xsi:type="dcterms:W3CDTF">2014-04-23T11:46:57Z</dcterms:modified>
  <cp:revision>52</cp:revision>
  <dc:subject/>
  <dc:title>Jeopardy</dc:title>
</cp:coreProperties>
</file>